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22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35B0-EC3D-411D-B7CD-092B53F514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3751-D6AE-4BAE-91C7-8C0705A139D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7062-E5F3-4FE3-AF1D-8FAF9219CA4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2F42-6A28-4D1A-B49F-F952DB5E5A5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ADA1-86B7-4198-90E8-CDDB112315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A9F5-F0CF-477A-8AE0-E274BC8DA8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39920" y="547560"/>
            <a:ext cx="4108320" cy="30830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3673440"/>
            <a:ext cx="543564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CD22-F058-4AB5-B71B-12741C30BDD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55760" y="566640"/>
            <a:ext cx="4073400" cy="3056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1200"/>
            <a:ext cx="49388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F1B-608B-47FD-8568-541A2983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7CEB-2FB4-4130-ACD2-9F7E7CCD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D298-C6D0-432B-B454-E787D84D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4CD-04FA-4F46-869B-92C3BA76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B625-B2D8-405A-B0BC-FC44A9E4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D56-0D1F-4C30-A7D8-BE07AC29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C48-F73D-4C3F-A6BE-F320EBCB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14F-4B6F-4113-8AA3-CE62A65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FEB-0770-465E-A283-C77DBCB2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515-074D-4B63-B975-F39D04D7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286-5443-4C36-90E1-95120937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5AB0-BB68-40FC-99E1-2AC3437E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1497-ECB3-4967-B48D-5082D027D6A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47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85" name="Přímá spojnice se šipkou 4"/>
          <p:cNvCxnSpPr>
            <a:stCxn id="86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6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92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125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 v posledním monitorovacím (sledovaném)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98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8"/>
          <p:cNvSpPr/>
          <p:nvPr/>
        </p:nvSpPr>
        <p:spPr>
          <a:xfrm>
            <a:off x="3419640" y="4797360"/>
            <a:ext cx="7207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Přímá spojnice se šipkou 11"/>
          <p:cNvCxnSpPr/>
          <p:nvPr/>
        </p:nvCxnSpPr>
        <p:spPr>
          <a:xfrm flipH="1" flipV="1">
            <a:off x="3419280" y="3789360"/>
            <a:ext cx="1584720" cy="1440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0" y="692280"/>
            <a:ext cx="41828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, pokud bude u VŘ pouze jeden dodavatel. Pokud bude více dodavatelů, příjemce bude vyplňovat pole na záložce Detaily k VŘ ručně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9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824360" cy="496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2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08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13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Přímá spojnice se šipkou 5"/>
          <p:cNvCxnSpPr>
            <a:stCxn id="114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Nová záložka od 2. 7.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&gt;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dvojitých šipe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0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36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8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43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44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77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64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66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3"/>
          <a:stretch/>
        </p:blipFill>
        <p:spPr>
          <a:xfrm>
            <a:off x="6443640" y="2354400"/>
            <a:ext cx="762120" cy="333360"/>
          </a:xfrm>
          <a:prstGeom prst="rect">
            <a:avLst/>
          </a:prstGeom>
          <a:ln w="0">
            <a:noFill/>
          </a:ln>
        </p:spPr>
      </p:pic>
      <p:cxnSp>
        <p:nvCxnSpPr>
          <p:cNvPr id="169" name="Přímá spojnice se šipkou 3"/>
          <p:cNvCxnSpPr>
            <a:stCxn id="168" idx="1"/>
          </p:cNvCxnSpPr>
          <p:nvPr/>
        </p:nvCxnSpPr>
        <p:spPr>
          <a:xfrm flipH="1">
            <a:off x="2245680" y="2521080"/>
            <a:ext cx="4197960" cy="28533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Přímá spojnice se šipkou 3"/>
          <p:cNvCxnSpPr>
            <a:stCxn id="174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182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187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9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194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96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Přímá spojnice se šipkou 7"/>
          <p:cNvCxnSpPr>
            <a:endCxn id="196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03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12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4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27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lizac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33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34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Přímá spojnice se šipkou 5"/>
          <p:cNvCxnSpPr>
            <a:stCxn id="238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40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48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54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56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60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116000" y="1197000"/>
          <a:ext cx="676260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604880"/>
                <a:gridCol w="173664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 </a:t>
            </a:r>
            <a:r>
              <a:rPr b="0" lang="cs-CZ" sz="3900" spc="-1" strike="noStrike">
                <a:solidFill>
                  <a:srgbClr val="143f7e"/>
                </a:solidFill>
                <a:latin typeface="Wingdings"/>
                <a:ea typeface="Wingdings"/>
              </a:rPr>
              <a:t>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dělení monitorování a 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Odbor řízení pomoci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Ministerstvo práce a sociálních věcí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Na Poříčním právu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128 01 Prah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1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3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1"/>
          <p:cNvSpPr/>
          <p:nvPr/>
        </p:nvSpPr>
        <p:spPr>
          <a:xfrm>
            <a:off x="250920" y="1916280"/>
            <a:ext cx="115236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Bukovská Jiřina (MPSV)</cp:lastModifiedBy>
  <cp:lastPrinted>2012-04-23T10:38:10Z</cp:lastPrinted>
  <dcterms:modified xsi:type="dcterms:W3CDTF">2012-12-11T06:49:25Z</dcterms:modified>
  <cp:revision>441</cp:revision>
  <dc:subject/>
  <dc:title>Snímek 1</dc:title>
</cp:coreProperties>
</file>